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2253-C8C5-4782-8EFA-8BA6ED2D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C71E-85ED-4B20-8994-9D327907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DB6DC-4E3E-439E-A830-C66C4C8F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121B7-DB10-4129-BC03-261A1BD1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53181-5525-403B-B05B-8012DF97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96155-4DD5-4919-85B8-5A96F2AE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F5E83-1D23-49ED-B7B4-5E5BCDEA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9F750-AE6D-4140-9F00-33F37E47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37A4F-55E2-4C0B-8BED-3B95F3A3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58F7F-4F42-49A0-A3B8-1471D4219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F46FC-C862-4E88-87EF-F3753336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03F5D-BA03-43AA-8C63-F64CD3D3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A003-3B10-47B0-8F18-F427B0F3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6A90E-561D-4431-A422-D20D591C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427B0-1165-4C13-BF12-44B9D75F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3A340-15EC-471F-A3F6-DFBEF2AA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CF914-EB4E-49DF-B37C-29500308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75D10-BBF1-4F40-9EF3-3FA2D45A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834DE-D02F-4490-BD1E-89F6307D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EF31BB-D3E8-4615-8203-2DF97F95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5A94D-6C79-4697-9597-E9645D41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56C10-E11F-4174-BD13-E7154BA8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0C8E7D-0E3C-4773-BB75-8F7516C2B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8882-7E54-48BC-853E-0C1B90C25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62545-14D7-4160-B2C4-34F3C9C5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BE97-D471-418E-AEA3-22F9300D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E95F-37A3-4D75-A200-224AB304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424D-B279-4155-803A-5CAD592C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F015-71E6-428A-B76D-012D8E77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BC22-FB8E-4BCE-9E75-6F91F90D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5EB5-BC48-4D11-825F-C9D9CF61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49F1-4DF0-4239-98E4-F7F58A89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5F50-F7FA-4889-A20C-91426898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FBF6-12E4-4D95-921F-32FAF01D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0CA2-CB9F-443B-AF63-90255722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6A81-942A-4F45-AB23-C81A24A1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5FFC-AE06-44EA-BF45-B76584E2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6B55-B046-4313-9DC3-42E1C3B6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52395-4645-4E4E-8AAC-3CB8670A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B3B0C-B147-477F-92A7-9D08F776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E87C0-0CF7-47A4-9F41-7C05059A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74D71-62C0-469D-B740-CF86E9E4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8A463-5B5B-43D5-998E-350DECDC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9533-AED4-4321-95E1-9F121C9E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D06D9-9EC2-48B1-A6FF-1958FA48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6460A-57D4-4830-9D54-6E0AF85D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5BFAD-B0C2-4E4C-A1A4-AC429A51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EB32A-0D5C-4DE2-B282-52C2C5EB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7CD5A-F20E-418A-9BC4-07E86321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2FC7E-5F79-4A19-ABF2-1B7803F4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4AAF5-19CD-4FA2-8983-3F58D02F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84211-6650-43DF-B10D-1D59E783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B2350-CF6D-4E86-966E-AC71D878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56476-F4F2-4802-813A-A68EC9E5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D28E-8ADD-47C9-B79B-792340EE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C0022-9D3D-4566-8F20-4422A6BC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69D53-F9C0-46B4-A363-052BABD9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48AD8-79A7-4087-BEA4-F23FC8DF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03806-7CC0-4F17-ADE7-B8024B89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BDD43-4E9D-4FB7-924E-8DB1A9F1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E2C2B-7306-4F5A-8433-A361D67A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7D58A-5BE4-47F9-AA3C-FFD6F728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31905-0C1D-4C4D-A4F3-8FC20361C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95D90-7F5A-4065-86C4-52D67E580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F2222-1E45-432C-95FE-892A97A6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B7AA-431E-46E7-ADE5-07421054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D04CB-756A-41D1-B20E-55C87A00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8AB6C-B951-4898-B5E6-10B98260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35AF0-30F7-4DB0-9E40-357AC57E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2F633-07AE-4F97-861A-2BF356C0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92E26-2A68-4922-99D5-BC8E65B5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551E6-A138-427F-9C0D-CC053F5C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DB633-FFE3-4388-9A1E-879B8052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CA5BF-F4F1-45F6-82FD-B971F6EB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2E76E-2FBF-4A2E-AA36-46A90B60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E0A65-B6BC-40C6-9FB2-5BA4720A1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0C96-B361-46FE-A948-82C04D86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52FC6-52D9-4F69-9491-88C9383B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92997-6891-4781-ADAB-61416F1B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014FD-25B6-4FF4-B472-6D9EF95E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F3DF1-96F0-4E93-90C8-41191AFB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50E00-F5D4-47BB-B829-47AC14D0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CF605-1163-4BF1-807A-1BA40216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D5B87-6C28-4A87-B10D-C9EE7FA4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5FF44-7E92-4EE2-814E-EBA91785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D3B32-A88C-4784-B213-360C0F16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68E29-124B-4108-8683-4E71076D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0341-B2BD-4069-AA5E-D821BF0A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D2192-F830-4EE0-A54B-FA089D49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1D104-390D-4F6B-8FDF-CA3244A02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E5D99-222E-4EDF-97D3-B1724DD0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3D766-A550-4BEB-BF12-E5ED3B110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97E21-508B-4A87-895C-285B9746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9F57D-44DE-49D6-A38D-5F8F6D43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8CD96-643A-490C-82DD-74E3A4FC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65A68-E5CB-4B1F-A703-0C280EBA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A8012-367C-4698-9E71-F3FAE3FC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272EB-F7E7-47C7-86A8-FC70CCCB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9BF5-6A93-42ED-960A-DB27E282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0AEDF-454D-45BE-89BC-7D81CD70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D3238-9D5A-4E27-AFD3-3BC4162B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2EF02-D2E9-4666-AA2A-C9DD790B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FD5D4-6F75-4038-A015-4B97CB669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6FDB7-37B5-4A1D-9386-ED71FE0F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63117-F823-4083-AE01-02EA6EE2D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A0A6A-B42C-49D8-A98E-55E61565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AEEF9-ED89-45D1-B33C-0CA68C78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987F1-6B7A-4600-A8CD-00426E3C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CA2CC-7211-45B0-9C3F-1F6A01C1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53CD-7D2B-43A5-B7ED-36FF19C1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9C57D-D5DE-43B7-870A-BC969AF0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E7350-F685-4D37-A99B-9EBFC5E9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573AC-3232-4564-A69E-B4FD39C2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649E6-62A7-44CF-98B9-4918E9C6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689F6-F546-420E-9BE9-D3D44771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C5A37-3BFF-4498-AA7D-F77A9A03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75F0F-50B6-4AA9-92AD-77740804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2953A-0F9F-4573-BFCB-D53FBAD8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B6973-445B-4694-95F1-E74925C0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2424A-E081-492B-88C0-5D205464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3E5C-438A-49B6-BC20-18C262A31D1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3A81-E0DA-4DF3-818E-977EF5BB500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BA4C-20A4-4AAB-A270-81B1E406E0B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8270-1200-4805-B685-BE7440518D2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6016-DE50-47ED-A757-62531948E33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5533-62C7-4B02-B3BB-A1AAE358A8A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E3DD-9D1C-4144-9AD6-0047DB94419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953A-1237-4415-94C5-88E08F05F6B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3F5B-2E11-419F-A1F7-8A03C1B9C53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E845-6842-43E4-B821-3C96D35FDA5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7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어디에 가십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어디에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를 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한국말을 공부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슬리퍼리록 대학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식사를 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식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은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을 타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청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다나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디에 가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시내에 갑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다나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시내에서 무엇을 하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친구를 만납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시내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downt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친구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fri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만나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m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here; interogative 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어디에 갑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어디에서 일하십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병원이 어디에 있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o ~, at ~; postposition denoting time or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10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시에 학교에 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일요일에도 회사에 갑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내일 미국에 갑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에서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at ~; postposition denoting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교실에서 공부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을 시장에서 샀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 여자는 은행에서 일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부산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usan (Pusan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병원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hospita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우체국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post offic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학교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schoo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극장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thea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일하다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work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다방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coffee shop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시장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시청역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the city hall sta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은행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식당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restauran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하숙집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oarding hous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식사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mea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도서관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librar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백화점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department stor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과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frui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학원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institut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 갑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미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부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 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은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디에 가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 갑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중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병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식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우체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하숙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집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식사를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극장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보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도서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을 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백화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물을 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1-12T14:35:59Z</dcterms:modified>
  <cp:revision>97</cp:revision>
  <dc:subject/>
  <dc:title>KOREAN LANGUAGE</dc:title>
</cp:coreProperties>
</file>